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9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107-C1FA-4C44-94F1-51F9A7A5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A97-8213-4B98-AE67-DFF61516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80F-98B4-4331-A322-77AB4EDE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23A-E556-4CBD-A064-F63211E2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8DD-79FB-4603-9D98-D8014955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980-322E-4FEB-AB58-D3D0308B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324-7117-4F52-8754-01B9C07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467-6D38-43C9-8765-9667006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A40-AFD3-4494-80E4-3B50B1E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DF9-D655-4CA4-999C-22CBEE5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5D2-40AC-4380-8841-D22C722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729-48FD-4A22-BC7B-9736A5C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7 April 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Annual Review: S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64F1DAD1-4DAB-40CF-BD1D-7A15F9CB98C4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46080" y="163080"/>
            <a:ext cx="715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e-VLBI correlator mode: control interfac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9800" y="1200240"/>
            <a:ext cx="7140600" cy="395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08160" y="3535200"/>
            <a:ext cx="7750080" cy="28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A63-FDA6-4449-A361-95DC010960E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6960" y="349200"/>
            <a:ext cx="83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esterbork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e-EVN as a unique instr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5000" y="1494000"/>
            <a:ext cx="7204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bork Synthesis Array data may help in calibration (amplitude,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ircular polariz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help to confirm detection/non-detection of weak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ld be used as a ‘built-in’ alert instrument for the e-EV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 can help improving coordinates of new transie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daptive scheduling, this could be immediately us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LBI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to mention the additional information on the very large-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 (which we normally waste when we do not reduce Wb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ong with the EV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ow long will Westerbork be still around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68A-FA7B-46E2-814B-7F88FBF58DF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000" y="272880"/>
            <a:ext cx="68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e-EVN as a trigger instrumen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1066680"/>
            <a:ext cx="7203960" cy="54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we are not good in responding ToOs, but good in providing qu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, can we turn around the log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ly could monitor known transient sources (e.g. microquasars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S1915+105) in a snapshot mode during the e-VLBI tests, regul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of a flare, report to the community, providing 0-epoch map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 possible when a ToO VLBI run follows a single dish trigg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ly accessible for the whole astronomical community, ready map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VN archive (all public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more sensitivity and dynamic scheduling, may continue thi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w X-ray transients or gamma bur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How shall we select these key science target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Can we contribute to X-ray and gamma ray missions like G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Have invested a lot of money in e-VLBI, now let us invest a great deal of observing t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B83-1480-4063-8330-918DCEDFB8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840" y="539280"/>
            <a:ext cx="715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Monitoring tools: Integrating fringe display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4760" y="1674720"/>
            <a:ext cx="5751360" cy="46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B67-3F7E-4501-B75E-58DD69CA6C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71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Monitoring tools: Data status monito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3960" y="1157400"/>
            <a:ext cx="6424560" cy="537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30240" y="1150920"/>
            <a:ext cx="6526080" cy="5396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479600" y="1014480"/>
            <a:ext cx="6459480" cy="541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920960" y="944640"/>
            <a:ext cx="6464160" cy="5408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74840" y="857160"/>
            <a:ext cx="6558120" cy="54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3CF-00A9-46A5-B913-0A7EB97F42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71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Monitoring tools: Data status monito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540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33720" y="1405080"/>
            <a:ext cx="6076800" cy="50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055-F3FF-4648-B762-1895475A77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840" y="12816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Rapid adjustment of correlator params: vex edit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760" y="1047600"/>
            <a:ext cx="4041720" cy="373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44600" y="1414440"/>
            <a:ext cx="4041720" cy="37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612880" y="1468440"/>
            <a:ext cx="6303960" cy="51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4378320" cy="34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C49-34A8-4AF3-AEB2-752D1D2FC0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(near) Real-time analysis: streamlining of post process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6560" y="2016000"/>
            <a:ext cx="7704000" cy="38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D46-EAF6-43AC-B08F-559C2CD1DC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0640" y="235080"/>
            <a:ext cx="7407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Web-based Post-process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1480" y="1015920"/>
            <a:ext cx="4476960" cy="432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4080" y="1209600"/>
            <a:ext cx="4478400" cy="433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501920" y="1554120"/>
            <a:ext cx="50227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031840" y="1758960"/>
            <a:ext cx="4967280" cy="4262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548080" y="2006640"/>
            <a:ext cx="4975200" cy="426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110040" y="2090880"/>
            <a:ext cx="4946400" cy="424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755880" y="2104920"/>
            <a:ext cx="4913280" cy="421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E60-4653-4320-B8AD-7F5AF4A757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6920" y="304920"/>
            <a:ext cx="36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800" y="1341360"/>
            <a:ext cx="67168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re already very good in quick science turnaround: on the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processing/pipelining is possi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512 Mbs and with Effelsberg, Shanghai and other new telescop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will also be very good in sensitivity and resolution (in 2007/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re poor with immediate good cal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system is not suitable for real T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have to be able to produce high dynamic range maps of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ing on timescales of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must be able to change schedule on the fly to be able to 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new transients with poor coordinat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DCB-54B9-42E0-8985-D8EC7B04E95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8280" y="12060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lgol, 14 December 2006 ru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9840" y="48006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sizmadia et 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in pre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919240"/>
            <a:ext cx="4457880" cy="3481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49680" y="1001880"/>
            <a:ext cx="533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taneous optical photometry and e-EVN o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 GHz, 256 Mbps) during secondary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flared – total intensity and circular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s consistent between WSRT and e-EV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re emission ~2 mas offset from the CP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804960"/>
            <a:ext cx="3124080" cy="300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1000" y="316224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ed proper motion dur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hours run –fitted orbit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AB close binary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e po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47800" y="685800"/>
            <a:ext cx="5675400" cy="5791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429000" y="160164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Dedicated observations of such f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will be challenging even for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LGOL_WB_V" descr=""/>
          <p:cNvPicPr/>
          <p:nvPr/>
        </p:nvPicPr>
        <p:blipFill>
          <a:blip r:embed="rId4"/>
          <a:stretch/>
        </p:blipFill>
        <p:spPr>
          <a:xfrm>
            <a:off x="1752480" y="685800"/>
            <a:ext cx="560088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1C8-70E9-4D27-B322-7F47C5069AF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Guest</cp:lastModifiedBy>
  <dcterms:modified xsi:type="dcterms:W3CDTF">2002-08-22T22:31:46Z</dcterms:modified>
  <cp:revision>47</cp:revision>
  <dc:subject/>
  <dc:title>Slide 1</dc:title>
</cp:coreProperties>
</file>